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7.png" ContentType="image/png"/>
  <Override PartName="/ppt/media/image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02A-491F-403D-9E50-7C304A27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0D1-6676-470E-A5B2-671A52B3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8B7-8BD7-4298-B5E7-57CF2FFC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EBD-2F24-4CAD-9451-968C19F7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C236-3EA6-41ED-94D3-A7106DE2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CC81-E9B0-4C96-910E-0B9A08D6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88B8-82C7-430F-90CD-354442D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9C5-E7E4-4A1E-AD72-9CE050F7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2F6-3C54-4466-A416-EDD36A4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F982-1983-4C09-8944-3B60B0C6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76D0-23C5-407E-989A-588E1E2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663-897E-46BE-AF81-542907C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2511-8668-4583-86B3-4C84824E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504-5095-401E-B3C9-A275101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EB30-E9B2-4478-BE90-9F43899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4C5C-CB6F-4EC4-8B77-FECCF8C5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2623-03B9-4907-83F3-019107E7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37EF-0690-412F-9735-16F8F63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18FBE-D018-4357-9A0A-915B1E4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0655-F168-4EEC-ABAD-1F1500DB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D969-C111-4A2A-B9CA-207E547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2145-224A-4007-BB04-4B49B4C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D58-0FE2-4A96-83E5-6AF894B3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1E9A-BA42-4548-894B-0C9F721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AD5E1-2131-492C-BAB8-510DCE4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70B0-F65B-47F0-8081-4CA3B4D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CD10-C0DC-4E96-8B0F-1B75CFFE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E22A-277D-4F7E-A7D9-24D4ACDB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3A57-E494-4AC7-9406-BA15FF24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5CF7-DC57-489C-9E1A-6A7A8A7C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1A91E-3EF7-4F6B-BF17-C25600FD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2B7B7-C56B-4A6D-89EA-00600088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94B22-1AA0-4E5E-935C-44959A51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4B4-9331-4E3A-BFA1-B1F51EF2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1188-9379-45AC-BB46-C36DA548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F687-09B8-42F2-A7DA-2F1AF257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A766-5176-4853-8D8F-39C9606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BF68-8120-4D93-BE78-B072822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7E41-EBB9-4CF2-9E62-2D79934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1A3A-F765-4855-A1DD-5F09CF5C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470A-E430-4186-BD75-A19E53B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BC5E-C22F-45EF-81E9-5FBBA5D9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F948-D2F0-4714-BCE0-BC784158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D750-638D-4DDB-B0F5-B0768564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009-3D62-4CFB-B219-D61B3DBB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0748-3098-4B46-B247-E1AE20C0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8523-0334-4672-87F9-1FA5E1B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384F-ADDF-4299-BAE7-EAE296E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5ADE-0B66-4181-9DA6-A0C343CC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843E-B365-4BA4-BAA1-DAA39E3E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2E0F4-8A64-44FC-8959-95C5323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4D86-CC0C-4CAF-8CDD-B737EA13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DAF2-5C2E-43E5-B5D3-9339258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779E-81B1-47A3-932D-6072FF21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3499-F48C-40EA-9895-9AF35A08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E08-DFF9-4042-A46B-9312B7B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1DC8-5607-4D9C-B569-E982C466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3567-7571-4ADD-BE21-C189A605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2588-BB24-42C6-A6FE-610626DA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8899-B0E9-412B-908E-9BFF743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1053-B80D-4AE6-8A3C-A8071FCD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388B9-A6E6-4334-8363-49D16C0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4762-E00A-4AC3-9CA6-AD310A2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9E6F6-A401-4C1F-88C4-8ED1811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64E3F-84B4-4446-A7F1-A660BD6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F57C9-F70B-4401-853D-555D064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096-E34A-4798-A78C-BDBA5B17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74954-D0B8-4514-AA14-59CEF1C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A19D-8768-4CCE-8F13-A676A18A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EA31-9954-480E-A8A0-99C7B19C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8C0A-7CB6-40A9-86F9-78A210EC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891A-0A88-47A0-B2A0-2E9CF219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AFD7-369E-49B9-9853-F80CF6EA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17D0-F6AE-404F-81D8-407DE0F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47554-58F4-4348-929B-A3545ED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4CEF1-BB0E-46BC-B134-9ADFC4EB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8EFA-13F0-4F6E-BAB7-A90CD4B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DA1-6A22-4DD6-8515-D341E51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3E8A9-D4C0-4B33-9BC8-6C933E4E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9DFA5-62DD-4A9E-921C-A5E5B648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0DDEA-DFC7-4B5A-A659-ACF786E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F69D6-A091-4386-997C-50842427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FCCAE-5AB4-4787-829F-DCE1A5D0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368-5A39-4EB4-A8B2-E781B66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68F4-2E4E-4F76-B179-7200DEB66C0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2E9D-83C3-4A00-A153-3E637635D87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177-7E2E-43E3-9081-E070AA68614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2FAE-76FA-42D5-97B2-E3BCFFF00E7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15D3-22B3-47F7-AD78-6281B09D5E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299-14B8-4556-B865-558EC3F057C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0F9-9BB3-4B7E-93B0-1C2F2055A9D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merican Realis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533520" y="1981080"/>
          <a:ext cx="8229600" cy="2565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en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merican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erceived the individual a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oman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alph Waldo Em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 g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enry J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illiam Dean How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ark Tw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mply a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atur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ephen C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rank No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 help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85680" y="158760"/>
            <a:ext cx="2602080" cy="1127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Placeholder 7" descr="Realism3.jpg"/>
          <p:cNvPicPr/>
          <p:nvPr/>
        </p:nvPicPr>
        <p:blipFill>
          <a:blip r:embed="rId2"/>
          <a:srcRect l="2669" t="0" r="2669" b="0"/>
          <a:stretch/>
        </p:blipFill>
        <p:spPr>
          <a:xfrm>
            <a:off x="2903400" y="148428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wo views of Realism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Realism is nothing more and nothing less than the truthful treatment of material.”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William Dean Howells, “Editor’s Study”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bel"/>
              </a:rPr>
              <a:t>Harper’s New Monthly Magazine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(November 1889)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"Realism, n. The art of depicting nature as it is seen by toads.  The charm suffusing a landscape painted by a mole, or a story written by a measuring-worm."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-Ambrose Bierce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bel"/>
              </a:rPr>
              <a:t>The Devil's Dictionary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(1911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assive growth of the United States after the Civil Wa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ncreasing rates of democracy and literac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apid growth of industrialism and urbaniz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n expanding population base due to immigr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relative rise in middle-class affluen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alism is “a strategy for imagining and managing the threats of social change"  - Amy Kaplan,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Social Construction of American Realism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ix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Content Placeholder 7" descr="Realism1.jpg"/>
          <p:cNvPicPr/>
          <p:nvPr/>
        </p:nvPicPr>
        <p:blipFill>
          <a:blip r:embed="rId2"/>
          <a:stretch/>
        </p:blipFill>
        <p:spPr>
          <a:xfrm>
            <a:off x="4889520" y="1893960"/>
            <a:ext cx="35560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pic>
        <p:nvPicPr>
          <p:cNvPr id="312" name="Content Placeholder 4" descr="Realism2.jpg"/>
          <p:cNvPicPr/>
          <p:nvPr/>
        </p:nvPicPr>
        <p:blipFill>
          <a:blip r:embed="rId2"/>
          <a:stretch/>
        </p:blipFill>
        <p:spPr>
          <a:xfrm>
            <a:off x="560520" y="1773360"/>
            <a:ext cx="3832200" cy="4624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alue for local traditions—fear of their loss due to rapid changes in the U.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view their stories as a realization of Democrac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jection of Romanticis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nterest in psychology and rational philosoph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spect for science and empirical da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agmatic, relativistic, democratic and experimental 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ality is relativistic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uth is not absolute, but contextual and verifiable by experie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Content Placeholder 4" descr="Realism 5.jpg"/>
          <p:cNvPicPr/>
          <p:nvPr/>
        </p:nvPicPr>
        <p:blipFill>
          <a:blip r:embed="rId2"/>
          <a:stretch/>
        </p:blipFill>
        <p:spPr>
          <a:xfrm>
            <a:off x="5130720" y="1676520"/>
            <a:ext cx="2793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pic>
        <p:nvPicPr>
          <p:cNvPr id="318" name="Content Placeholder 7" descr="Realism 6.jpg"/>
          <p:cNvPicPr/>
          <p:nvPr/>
        </p:nvPicPr>
        <p:blipFill>
          <a:blip r:embed="rId2"/>
          <a:stretch/>
        </p:blipFill>
        <p:spPr>
          <a:xfrm>
            <a:off x="841320" y="1722600"/>
            <a:ext cx="3197160" cy="4173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 is more important than plo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s are complex, as are their relationships and motiv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vents of the plot are believable, not fantas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ots center around people’s everyday liv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thical choices are often the subject of plot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tuations rarely involve tragic or cataclysmic consequenc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re is no overt moralizing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uthor’s objectivity is valued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ose is simple, clear, and direc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Content Placeholder 4" descr="Realism 8.jpg"/>
          <p:cNvPicPr/>
          <p:nvPr/>
        </p:nvPicPr>
        <p:blipFill>
          <a:blip r:embed="rId2"/>
          <a:stretch/>
        </p:blipFill>
        <p:spPr>
          <a:xfrm>
            <a:off x="4648320" y="2378160"/>
            <a:ext cx="40384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0" y="1828800"/>
            <a:ext cx="419112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86000"/>
          </a:bodyPr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n extension of realis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ejects Realism’s emphasis on the ordinar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cuses on the fringes of society: the criminal, the fallen, the down-and-ou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ed on Darwinism and scientific Determinis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 person’s fate is the result of external or biological forces (heredity or environment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Content Placeholder 5" descr="Realism2.jpg"/>
          <p:cNvPicPr/>
          <p:nvPr/>
        </p:nvPicPr>
        <p:blipFill>
          <a:blip r:embed="rId2"/>
          <a:stretch/>
        </p:blipFill>
        <p:spPr>
          <a:xfrm>
            <a:off x="4452840" y="2590920"/>
            <a:ext cx="4403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85680" y="139680"/>
            <a:ext cx="2693880" cy="1146240"/>
          </a:xfrm>
          <a:prstGeom prst="rect">
            <a:avLst/>
          </a:prstGeom>
          <a:ln w="0">
            <a:noFill/>
          </a:ln>
        </p:spPr>
      </p:pic>
      <p:pic>
        <p:nvPicPr>
          <p:cNvPr id="327" name="Content Placeholder 3" descr="Realism 4.jpg"/>
          <p:cNvPicPr/>
          <p:nvPr/>
        </p:nvPicPr>
        <p:blipFill>
          <a:blip r:embed="rId2"/>
          <a:stretch/>
        </p:blipFill>
        <p:spPr>
          <a:xfrm>
            <a:off x="4572000" y="1523880"/>
            <a:ext cx="4191120" cy="52246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67760" y="1730520"/>
            <a:ext cx="3489480" cy="4975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image is  the Bandit's Roost slum at 59½ Mulberry Street,  considered one of the most crime-ridden, dangerous parts of New York Cit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Timed Writing (5 minute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nalyze this photograph.  Answer the five questions of OPTIC.  Finally, state the thesis of this visual argumen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4:32:34Z</dcterms:created>
  <dc:creator>Stephen Joseph Fazio</dc:creator>
  <dc:description/>
  <dc:language>en-US</dc:language>
  <cp:lastModifiedBy>Carrie Danielson</cp:lastModifiedBy>
  <dcterms:modified xsi:type="dcterms:W3CDTF">2012-04-10T22:13:44Z</dcterms:modified>
  <cp:revision>158</cp:revision>
  <dc:subject/>
  <dc:title>How History Influences Text: American Realism</dc:title>
</cp:coreProperties>
</file>